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280-8367-4082-BCD4-0A94633B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C64-ABFD-4AAD-B60C-F8C65385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1A1-C456-44AE-92B1-CAD36F58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5F8-EA4E-4964-A419-629E6355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B63-F4F2-4254-86ED-3A06E0DF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FE2-3D1E-479B-8EFD-4C7CA340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09B-A13E-499F-B73F-D7752360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A57-C252-4C72-9AAE-8CDD9B3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5E9-15CA-40C0-8AC9-9FF18F3B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2B0-78C1-4FB6-9529-FDC9FDA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4F6-F343-4AE2-9CD8-AB59381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E34-DF07-423B-809A-C8B01DD6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D32-0F9D-4B00-8D0D-198A5AC24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l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xal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7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lc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l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l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4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V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ilver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g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lO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pochlo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yan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mmon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H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ulf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umin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3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ead(IV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b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4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t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cet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t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balt(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inc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3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rse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ron(I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Fe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3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e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od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riu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u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2+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ermanga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 baseline="30000">
                <a:solidFill>
                  <a:srgbClr val="dddddd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pper(II)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lo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3:57:07Z</dcterms:created>
  <dc:creator>Greg Wheeler</dc:creator>
  <dc:description/>
  <dc:language>en-US</dc:language>
  <cp:lastModifiedBy>Megan Gil</cp:lastModifiedBy>
  <dcterms:modified xsi:type="dcterms:W3CDTF">2008-11-23T23:00:26Z</dcterms:modified>
  <cp:revision>5</cp:revision>
  <dc:subject/>
  <dc:title>lithium oxide</dc:title>
</cp:coreProperties>
</file>